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74056"/>
        <c:axId val="16074539"/>
      </c:barChart>
      <c:catAx>
        <c:axId val="14574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4539"/>
        <c:crosses val="autoZero"/>
        <c:auto val="1"/>
        <c:lblAlgn val="ctr"/>
        <c:lblOffset val="100"/>
        <c:noMultiLvlLbl val="0"/>
      </c:catAx>
      <c:valAx>
        <c:axId val="16074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4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9FC-A864-4265-8E39-C6022591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46B-BED3-420C-9C01-66AE37B2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C83-CB17-4DA7-8711-33BA8FF1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AF7-38AF-4DD6-924D-A8BF7786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FFB-5534-4F4B-89C7-CB6313E3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BF5-429C-4A1B-B670-E4A0021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C6B-0B4B-4364-88FB-C31022D1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358-7B4E-4C18-B469-9C3FEAE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CC2-7BB3-46B9-B068-ADAA96C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CA7-FDBB-4E3E-979D-5EB916B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4B2-3C63-471D-BABA-0E18009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9F0-A445-48E3-8DC0-5A5B338E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577C0-361C-499A-A985-C8443C7723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