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8413294"/>
        <c:axId val="76195395"/>
      </c:barChart>
      <c:catAx>
        <c:axId val="6841329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195395"/>
        <c:crosses val="autoZero"/>
        <c:auto val="1"/>
        <c:lblAlgn val="ctr"/>
        <c:lblOffset val="100"/>
        <c:noMultiLvlLbl val="0"/>
      </c:catAx>
      <c:valAx>
        <c:axId val="7619539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41329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E06F1-B626-43CD-A482-F49B13CB6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0D965-8DF0-474E-B50A-9AFAB2104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B93E5-04F7-475F-898D-74AED9428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A421F-68EE-4D4C-B1B2-AAB14C59D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CDBCA-3643-4340-91CE-C86872AAB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210F5-B4AB-4797-8CE4-A37DF5E2B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2DA40-ACC8-4B2A-914C-8990BE783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570B0-E4D9-4DFF-B2AE-5DCE0CE4B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B621A-378C-403E-A145-17389229A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21AB6-A22E-419D-A44B-F9090A8E3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31929-23BC-4A84-ACFC-CE5376FCE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2DED7-34FD-458A-A14F-C38CB3EBE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E0231F-F8E1-44DE-9B11-6D3F4AF740C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