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765698"/>
        <c:axId val="1631236"/>
      </c:barChart>
      <c:catAx>
        <c:axId val="807656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31236"/>
        <c:crosses val="autoZero"/>
        <c:auto val="1"/>
        <c:lblAlgn val="ctr"/>
        <c:lblOffset val="100"/>
        <c:noMultiLvlLbl val="0"/>
      </c:catAx>
      <c:valAx>
        <c:axId val="16312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7656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EFB9-376C-4B03-823B-93A5A3C20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79B5-DB76-4D2C-AA0B-A2486BB7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1EA1-4C11-40B1-979F-D7A5CA2CD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825E-10F2-41DC-B724-096081088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EC81-D85C-43DF-BE38-4E5B4674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20C7-2D6A-4960-9B35-E3FCAE4E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C7DA-6CA2-46DE-8F3A-CE255508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CB1C-FBAB-4A37-918B-077B1255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20D7-CC9E-458C-BE07-D4D77651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3627-43C1-44B4-A450-5B9E9E62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7F26-1929-4D21-B4AE-D08ED97E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A096-9E47-4121-AC23-406A5B27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58CD65-79A1-4753-B5F5-1580756A2C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