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77124"/>
        <c:axId val="80665884"/>
      </c:barChart>
      <c:catAx>
        <c:axId val="37277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5884"/>
        <c:crosses val="autoZero"/>
        <c:auto val="1"/>
        <c:lblAlgn val="ctr"/>
        <c:lblOffset val="100"/>
        <c:noMultiLvlLbl val="0"/>
      </c:catAx>
      <c:valAx>
        <c:axId val="80665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7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DD6-FF70-49B5-B148-2357D3C2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87A-F2FA-46A0-8C23-BEB65E8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E6E-1C25-4197-BBE5-9659ABB8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96D-5A9F-4392-A59D-4FEFC846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C64-0176-4D37-AD69-8D6CE2C9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1F1-FDAC-47D3-A5AC-C2CD81D0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B92-2972-47CF-8DCF-7A5E23E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6DB-B7E4-4BE3-AD45-1232303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BEF-E1BC-4097-BA02-BC8FF64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A1B-38B6-43DF-BB98-1FF5D2B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D86-ECCD-4ED1-BD25-9C50BB3D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0A8-5070-4D81-8F82-1E9F6F8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66C8D-FD08-4A99-A50D-303CCD38E2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