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63024"/>
        <c:axId val="35813228"/>
      </c:barChart>
      <c:catAx>
        <c:axId val="17463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13228"/>
        <c:crosses val="autoZero"/>
        <c:auto val="1"/>
        <c:lblAlgn val="ctr"/>
        <c:lblOffset val="100"/>
        <c:noMultiLvlLbl val="0"/>
      </c:catAx>
      <c:valAx>
        <c:axId val="358132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63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729-14F1-49AD-9395-1B7D4505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7A9-3B3C-42F9-95B7-035C52AC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616-B8A0-46E2-B612-DA6F8787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397-0891-47C6-8050-E55E5BE3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2AC-5060-4E69-A351-9EDC0F5B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E32-57CD-43FE-B8D9-CA29F835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FF4-F623-4DE9-98D1-13D8A4EC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060-A51A-48E8-A42D-8BC1E1F6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4FF-97E2-43C0-AEA6-8433822E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E327-21F6-4A95-AA37-614862B6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BC2-2CA8-4EB6-9189-3B5F37A9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067-F67C-4E63-B1A2-70CC83A7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E0B48-8D07-4928-A787-E48B4C551F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