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368637"/>
        <c:axId val="25651604"/>
      </c:barChart>
      <c:catAx>
        <c:axId val="863686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51604"/>
        <c:crosses val="autoZero"/>
        <c:auto val="1"/>
        <c:lblAlgn val="ctr"/>
        <c:lblOffset val="100"/>
        <c:noMultiLvlLbl val="0"/>
      </c:catAx>
      <c:valAx>
        <c:axId val="256516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686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541B-DBBF-484D-95E2-CA0E01C86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2D66-0532-4707-8BE1-1B6A5360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72E1-57AB-4FBA-B4F6-CE0082A7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377F-79D3-4EF5-AB1F-D6530E731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F08C-9F51-4B3E-AC34-7D16DD70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61FC-7B02-4958-A243-9CA10C36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B8AD-E654-4C52-896E-764EDDE6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1AE4-946C-4198-8C49-D3281C89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01B0-A678-4A6C-A38B-6D20E5D6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EB78-3B3B-4254-B8FB-F4966C6D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3D45-D927-4DC2-BA04-223F62ED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E3B8-63CA-4EED-8094-1D648D3A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009BB-AB6F-4F44-94BA-A77526289A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