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988898"/>
        <c:axId val="89383674"/>
      </c:barChart>
      <c:catAx>
        <c:axId val="36988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83674"/>
        <c:crosses val="autoZero"/>
        <c:auto val="1"/>
        <c:lblAlgn val="ctr"/>
        <c:lblOffset val="100"/>
        <c:noMultiLvlLbl val="0"/>
      </c:catAx>
      <c:valAx>
        <c:axId val="89383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88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B05-2111-4B68-A95F-BBC3C128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2B0-F2D8-4AD5-BC6A-C6FF3653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522-F59D-47B9-B4AA-6A790114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C94-C461-4EB7-A910-FE1675E4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1E2-A255-4755-8866-F7B4C1B6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04C-A353-4E45-BF49-1958C89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A4C-FCBB-49BE-9B15-6AF64C42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E72E-184B-4090-9CF7-ECFB71E0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890-99EC-4370-8DE5-80C12544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443-26DA-4EBF-A38F-7D54E50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A09-2AEC-43B0-9BD3-CB28BD6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CF2-8F8B-4343-8F06-268E2BD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5AABB-A050-424F-9194-BA434FDB4A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