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971737"/>
        <c:axId val="88975812"/>
      </c:barChart>
      <c:catAx>
        <c:axId val="32971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75812"/>
        <c:crosses val="autoZero"/>
        <c:auto val="1"/>
        <c:lblAlgn val="ctr"/>
        <c:lblOffset val="100"/>
        <c:noMultiLvlLbl val="0"/>
      </c:catAx>
      <c:valAx>
        <c:axId val="889758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71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8016-6752-4284-AFA1-334BC1A8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A1B4-70D2-4BD0-8EDB-C407160A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4664-356F-4835-92AF-2C8CC21C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1CE-10BC-4A21-9680-0938264B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3DB-E658-419E-8A42-6BB4EAAF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E98-6EB8-49A0-9BA2-7D925016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768-C847-490C-91C4-5A29991A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FE4-07C6-41C1-B6B7-45136EAC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A3A5-AEFC-4E0F-9E54-77BA7CD7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6AC-4C81-4A1E-851C-A634DF64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6500-E727-4026-904F-2BF9678A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3E0-2E72-46DA-B6EF-35C08B3C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9D555-47FA-41A1-BBEB-BAD77C4933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