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75137"/>
        <c:axId val="5403407"/>
      </c:barChart>
      <c:catAx>
        <c:axId val="72375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3407"/>
        <c:crosses val="autoZero"/>
        <c:auto val="1"/>
        <c:lblAlgn val="ctr"/>
        <c:lblOffset val="100"/>
        <c:noMultiLvlLbl val="0"/>
      </c:catAx>
      <c:valAx>
        <c:axId val="5403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75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BA9-9F51-4ED4-A5F3-2A2A00FB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D17-24B2-4909-A307-D64DE643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949-A2CD-43B4-939B-C733744C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2A0-E308-40D2-892C-5A7ADDB6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9F8-72AE-4F34-A90E-299CC212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C99-DE6E-49B6-B273-16DD52FD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065-EE9A-45C8-AFF4-3D3CE747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D8D-5018-4F95-954E-F5979D21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CF2-4F2D-4E19-9504-5607ED92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4C0-8BB3-4DDE-9966-B219E865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8AC-B1CE-4F8F-AFE0-9009B267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430-E5C2-4C43-BD6A-0D8C5EDB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9A950-1677-46D8-9583-FA130BDC68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