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90594"/>
        <c:axId val="75647165"/>
      </c:barChart>
      <c:catAx>
        <c:axId val="83090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47165"/>
        <c:crosses val="autoZero"/>
        <c:auto val="1"/>
        <c:lblAlgn val="ctr"/>
        <c:lblOffset val="100"/>
        <c:noMultiLvlLbl val="0"/>
      </c:catAx>
      <c:valAx>
        <c:axId val="756471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90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DACF-5371-4A91-AD21-BC24273D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599-42F7-4A9F-996B-77C38D93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BFC-4A77-43CE-930C-673C8BE7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D07-14EE-4071-B918-F180039C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96B-3ED9-45BB-98B3-CD9FEE55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25D7-CDFE-443F-859D-FD10128B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FDB3-AF4C-428D-8D15-A893AF62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2BB-4D43-44B2-89CE-D8B64288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064-1864-4612-8897-7EDCD33B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6FEB-1C38-4225-8913-46E5FF86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929-9026-43EC-AC6C-2CC0B77C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F6C7-86F0-4CCE-A307-6F761636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C5481-CAE4-41EE-BE89-4DE851DBD5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