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02413"/>
        <c:axId val="63920198"/>
      </c:barChart>
      <c:catAx>
        <c:axId val="10802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20198"/>
        <c:crosses val="autoZero"/>
        <c:auto val="1"/>
        <c:lblAlgn val="ctr"/>
        <c:lblOffset val="100"/>
        <c:noMultiLvlLbl val="0"/>
      </c:catAx>
      <c:valAx>
        <c:axId val="63920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02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70B-DA37-46D5-A7BC-C5600FC4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57F-032C-436C-A175-8A6B41DE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DB8-689D-49E7-A041-0CC50060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2DB-185D-45A0-B148-43E046CE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368-5683-4DA5-956B-4330CC34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00A-217C-4909-A815-DE8D34E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3DC-02B0-4569-98D4-83FD573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700-05E2-4F70-8BED-5751972D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C87-E33A-4BC2-B946-53F81840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5C4-3C6B-462C-98EA-15F6B3F4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F6C-BC06-4C3E-8698-DA69D43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755-0EB1-4055-97F7-6BDB6C2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D6B48-B7E9-41E5-9475-49737E2CA7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