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87647"/>
        <c:axId val="34076363"/>
      </c:barChart>
      <c:catAx>
        <c:axId val="90287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76363"/>
        <c:crosses val="autoZero"/>
        <c:auto val="1"/>
        <c:lblAlgn val="ctr"/>
        <c:lblOffset val="100"/>
        <c:noMultiLvlLbl val="0"/>
      </c:catAx>
      <c:valAx>
        <c:axId val="34076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87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22C-3B2F-448C-B677-B692F75E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067-A7EB-4ADB-8675-C742F7CC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823-621E-4103-BAD0-D110D436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A41-E8E1-46B9-AEFF-7FD4D965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75B-2D1D-4F12-8152-D92D8AB6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2C8-ADFA-459E-B362-677BC904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990-A7B9-4D4E-B8EB-0FF64DAB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E7B-516E-46A5-8462-476425A8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0A5-F64E-4F5B-8D96-78B78127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6FF-AB44-4FA9-BCF1-90DBC46A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567-1A36-40A1-A0A8-A816E13E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107-1F4F-4687-B051-EEF52336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A2DDE-1553-41B9-B6F5-02DFA78119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