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28427"/>
        <c:axId val="90508618"/>
      </c:barChart>
      <c:catAx>
        <c:axId val="76828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08618"/>
        <c:crosses val="autoZero"/>
        <c:auto val="1"/>
        <c:lblAlgn val="ctr"/>
        <c:lblOffset val="100"/>
        <c:noMultiLvlLbl val="0"/>
      </c:catAx>
      <c:valAx>
        <c:axId val="90508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8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01D-EE78-450C-8A48-B481021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BEE-CFC0-46CD-8625-84F4B12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C60-F5A9-43A3-B1FC-78B8A84F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D35-7ED9-48F3-9487-1308FA0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408-780D-46A0-8396-61B7148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B57-4032-4E97-BF7B-6BD4F9E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1C3-0A41-4F05-BAE1-60596DD7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E6F-545A-41A5-9583-81C28956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4AB-7385-4A08-B682-573DB20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4D6-1F7F-4697-AE29-08B2F8A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70D-49DB-440A-B55E-F3E4507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EDB-CC9C-402A-9071-9B2A074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09EC-EE65-4898-B411-C3C9D2156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