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36778"/>
        <c:axId val="41085512"/>
      </c:barChart>
      <c:catAx>
        <c:axId val="58336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5512"/>
        <c:crosses val="autoZero"/>
        <c:auto val="1"/>
        <c:lblAlgn val="ctr"/>
        <c:lblOffset val="100"/>
        <c:noMultiLvlLbl val="0"/>
      </c:catAx>
      <c:valAx>
        <c:axId val="41085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6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94D-F631-44AC-9920-6600EB75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83E-E800-43DC-9646-CFBCDDC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802-3142-4DBD-AE3F-1B7191EC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9C8-6EFD-49EE-9639-71DD8FF8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29C-C39E-4840-8FE1-32641375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D86-DFC4-4F66-A827-D3D5F5F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21E-865E-4A16-AF83-3B44785D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C7E-5AB4-42AF-9CD6-CD67A8CB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179-AD72-4C3D-91F7-1B39C23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B72-E13B-49BE-A37D-BBF1B48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CB7-304D-4B69-8B25-0BBB439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C2-8C56-4BAD-A4E7-CB27F5E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74AE-2968-4B81-8092-DE6846B65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