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31730"/>
        <c:axId val="54899452"/>
      </c:barChart>
      <c:catAx>
        <c:axId val="72931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99452"/>
        <c:crosses val="autoZero"/>
        <c:auto val="1"/>
        <c:lblAlgn val="ctr"/>
        <c:lblOffset val="100"/>
        <c:noMultiLvlLbl val="0"/>
      </c:catAx>
      <c:valAx>
        <c:axId val="54899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31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B6C-25AC-48D8-8150-24EA54A6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383-5B5C-438A-8F1C-FEE70478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FC2-D688-49A4-A22E-A18148FD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062-6A3A-40BB-BC0E-599D17DE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BAD-882F-4659-B6F1-24BF6FA4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B20-78ED-4B14-AF35-20D1927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7B4-3ED8-4397-9A86-43D7FD9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033-73C7-47ED-831B-79E1E35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4B3-04E4-4552-8BCB-6827E712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3BC-C2A5-4AFE-8DEF-3451D9B7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150-34B1-4EC5-BA2B-0E63C49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2FC-48C3-4785-B202-13FF5495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13A5F-4C02-4063-AF11-7C7966A7D9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