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69145"/>
        <c:axId val="87162622"/>
      </c:barChart>
      <c:catAx>
        <c:axId val="65969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62622"/>
        <c:crosses val="autoZero"/>
        <c:auto val="1"/>
        <c:lblAlgn val="ctr"/>
        <c:lblOffset val="100"/>
        <c:noMultiLvlLbl val="0"/>
      </c:catAx>
      <c:valAx>
        <c:axId val="87162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69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E51-05E7-47C6-927A-3416443F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A24-E12D-45F0-927A-65642EAD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079-4167-49CD-BC0A-8CB7FF10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611-6B12-4B84-914A-E286B632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2F6-5117-4690-8187-B8F52207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F9E-D67B-4498-A80D-A9F6AF90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E45-589C-465F-A3AD-43AFFADF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A29-9E2A-460C-B658-0AB18064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9B0-0DE4-4423-BEBD-946FF9F3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A8B-E550-40F9-AAFE-6C20B18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C77-EC47-48BA-ADDB-246B5518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D80-19F5-4A46-8140-E45388C3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9CFBD-5B05-4972-94F7-AF2A73A0D3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