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25017"/>
        <c:axId val="96521160"/>
      </c:barChart>
      <c:catAx>
        <c:axId val="75825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21160"/>
        <c:crosses val="autoZero"/>
        <c:auto val="1"/>
        <c:lblAlgn val="ctr"/>
        <c:lblOffset val="100"/>
        <c:noMultiLvlLbl val="0"/>
      </c:catAx>
      <c:valAx>
        <c:axId val="965211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25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DF2-3FE7-47BB-AEC6-EA6E86E3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D8A-A113-4ED9-9112-D581FE37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F89-12CC-4EF1-BDE3-CD8322D7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650-F124-4B24-941F-A2C410B2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4AD-2B83-4809-9516-A9C9DD2A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30F-B106-4BF1-B037-8451E98B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752A-8FED-4A5D-8423-8621A907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58B-76EE-4AC4-8CFC-FB3EFD75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3374-B3F3-4A8D-A199-EE273E1F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A22-DB31-4364-99CA-1443BB0F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3048-11C2-4D25-828F-99A7FAF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16E-7A99-4750-BD8F-417441C7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872BF-80D4-410A-A65A-92BE08BCB4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