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90465"/>
        <c:axId val="76745771"/>
      </c:barChart>
      <c:catAx>
        <c:axId val="55190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45771"/>
        <c:crosses val="autoZero"/>
        <c:auto val="1"/>
        <c:lblAlgn val="ctr"/>
        <c:lblOffset val="100"/>
        <c:noMultiLvlLbl val="0"/>
      </c:catAx>
      <c:valAx>
        <c:axId val="76745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90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AF5-9712-4D63-A69D-C64A3774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7D1-DB91-483B-8845-F4D7B780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57FD-48CA-465F-AE05-B8E7F50C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10F-484E-454C-B085-F4EA4904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BF1-72EB-48DE-B611-315B5596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F23-B062-4A28-A7BC-80189E5C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FA4-BA5A-4BD5-A0C3-0953A117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B78-28B6-4FF4-807F-C8F09931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737C-626E-4123-A431-8C2FAFD5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050-B2DB-4A1F-A147-E7133265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36A-E3F5-4729-B13B-12E845E0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07D-1797-4601-A6F6-C3AC5D88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67E93-91C0-4243-81A3-AE94D0D0B5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