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263752"/>
        <c:axId val="31172766"/>
      </c:barChart>
      <c:catAx>
        <c:axId val="232637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72766"/>
        <c:crosses val="autoZero"/>
        <c:auto val="1"/>
        <c:lblAlgn val="ctr"/>
        <c:lblOffset val="100"/>
        <c:noMultiLvlLbl val="0"/>
      </c:catAx>
      <c:valAx>
        <c:axId val="31172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637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284-34DA-4548-8816-0CDF1C4E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254-781E-4576-AEED-9DAF0E55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D233-9B2B-40FB-843A-0D2E8903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B0B-B5CF-4084-A7C2-4760CCDB1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CFCD-957B-432D-B08C-A065217E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5D98-8144-4ED6-9CDF-4351C1CE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D7E-5955-44D9-A4E7-C48BB0C04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B43F-ECBA-48DF-9CF2-9594AB2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0EE-22AF-4897-9477-899576CC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2F10-C8B6-4A6F-950F-F30BB1D4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9FB4-BFB7-4DB9-83C9-91F1AE8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7BB-A7D1-4012-AD38-4A2FE9C6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5471D-9653-45D5-9B63-E8378972C7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