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47902"/>
        <c:axId val="86017175"/>
      </c:barChart>
      <c:catAx>
        <c:axId val="66647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17175"/>
        <c:crosses val="autoZero"/>
        <c:auto val="1"/>
        <c:lblAlgn val="ctr"/>
        <c:lblOffset val="100"/>
        <c:noMultiLvlLbl val="0"/>
      </c:catAx>
      <c:valAx>
        <c:axId val="8601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47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6A6-AEEF-4B25-BE0F-7EE14466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160-9577-4F17-9D66-1F76FAD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98-235F-48DC-8614-8CF61205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94F-F2F0-404C-97D5-FA4BCC4A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022-D5E1-461B-B4FF-90CDA4B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B55-59E0-4EED-A387-4948BF9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437-A100-4B01-883C-DCF17CD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87A-A894-4A1E-83C3-B31F32A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B05-B887-4596-A529-04FF84F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822-199B-4132-9EEA-0EF5C238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AC7-65F9-4251-A15F-293318C2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198-94C8-4D9D-8772-2FE9FD0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C8F59-9A16-4915-A915-4A402061B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