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97121"/>
        <c:axId val="88913035"/>
      </c:barChart>
      <c:catAx>
        <c:axId val="11197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13035"/>
        <c:crosses val="autoZero"/>
        <c:auto val="1"/>
        <c:lblAlgn val="ctr"/>
        <c:lblOffset val="100"/>
        <c:noMultiLvlLbl val="0"/>
      </c:catAx>
      <c:valAx>
        <c:axId val="88913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7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A18-3CAA-49E8-89DD-9FA780CB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3EC-52D1-4AD6-9264-AAFD5EC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F47-84E9-4CFF-864B-5E963C7F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C52-B00F-443F-86B3-E5891034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8E8-6E6F-4AE0-8EC5-2462A6F9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E58-9A86-4695-9ADE-C38E6AD9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733-2DAB-4A3F-918B-5BB6516B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75D-A5B7-4332-9BBE-DDA0FC2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728-EE60-4B04-8921-30FDB96E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AC3-0451-4AE2-8105-3F0918B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AEB-3948-4134-96E9-CE26DD0A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02F-93B0-44F7-AEC8-B404EB5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A4089-114A-4D97-B1B7-A8C75B515C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