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12966"/>
        <c:axId val="34661086"/>
      </c:barChart>
      <c:catAx>
        <c:axId val="23912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1086"/>
        <c:crosses val="autoZero"/>
        <c:auto val="1"/>
        <c:lblAlgn val="ctr"/>
        <c:lblOffset val="100"/>
        <c:noMultiLvlLbl val="0"/>
      </c:catAx>
      <c:valAx>
        <c:axId val="34661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2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9AD-FBB9-47D0-B4ED-5360F43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F05-F11C-4DAA-A211-94216F10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D2-F3E9-4555-8FB4-27FE818C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D95-D8F2-41E1-BE90-BE0F642A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5A8-CC4F-476B-954D-8F8D5F0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3EC-D97F-448F-8409-BAECCFF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7C0-C965-402A-9C01-B4063E5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927-0A13-4809-ACE8-8CB81FFA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7D1-FB3B-4341-B7DB-F05264F8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495-550B-4777-9041-B852430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197-9932-4F3E-BBE7-4284753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F81-67CF-4C08-9F1E-A4E2E92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FB9FC-024B-4377-8C5C-04038646F5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