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20337"/>
        <c:axId val="95811471"/>
      </c:barChart>
      <c:catAx>
        <c:axId val="61820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11471"/>
        <c:crosses val="autoZero"/>
        <c:auto val="1"/>
        <c:lblAlgn val="ctr"/>
        <c:lblOffset val="100"/>
        <c:noMultiLvlLbl val="0"/>
      </c:catAx>
      <c:valAx>
        <c:axId val="95811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20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A9A-AC7D-4437-B383-1FD85245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0C4-D29A-4188-8BCE-AEC00B76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1DC-61E8-4DD6-83AC-2B0870D9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10B-92F3-4303-BE7A-603B1658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178-6A34-4990-8263-C80DAC2F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AB5-CA6A-4478-BED0-AD94A325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485-784D-447C-9591-7D43DC5A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219-59CB-4D2F-B691-18158F64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EB3-04C3-4324-AB1E-A3667807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C47-5664-4FA6-A4CA-1649B166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A7E-F375-4486-93B9-71616833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58D-BF5A-423F-B363-FC403BD8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B36AA-3C78-4835-BC76-F0FD2A0A5B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