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49616"/>
        <c:axId val="37245521"/>
      </c:barChart>
      <c:catAx>
        <c:axId val="28449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45521"/>
        <c:crosses val="autoZero"/>
        <c:auto val="1"/>
        <c:lblAlgn val="ctr"/>
        <c:lblOffset val="100"/>
        <c:noMultiLvlLbl val="0"/>
      </c:catAx>
      <c:valAx>
        <c:axId val="37245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49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0B8-0712-4098-A5A1-88A2AF52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C41D-5B19-45C4-A358-9D0B7E6B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37C4-53BF-48AF-80CB-DAF2EF1FD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0CA-BD8F-43BD-B554-D57BB067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F4F2-BA09-4709-AD7D-27465813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F808-40FD-4688-9D23-7B36A73B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3A96-7A69-44B4-94D3-9AA5137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084-AA3D-42ED-B237-DC7D6DCB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1B7C-4B6A-46F0-BBEB-5F081BDB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D3F6-EF8E-4196-8E3A-B26A5596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012D-CF4A-4242-92D7-40F750A1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31F5-2A67-4778-BA56-F72FB33A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E6867-1852-4F63-AAA6-F80299C7F1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