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37809"/>
        <c:axId val="57171529"/>
      </c:barChart>
      <c:catAx>
        <c:axId val="52037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71529"/>
        <c:crosses val="autoZero"/>
        <c:auto val="1"/>
        <c:lblAlgn val="ctr"/>
        <c:lblOffset val="100"/>
        <c:noMultiLvlLbl val="0"/>
      </c:catAx>
      <c:valAx>
        <c:axId val="57171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37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D28-25FE-49BC-B88F-F217F950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C40-AB8A-4DD8-8938-3B659F1F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89B-3D31-441C-805C-509EB49D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68F-CF91-4F7E-AACD-74EC6C0B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E05-85FE-4495-8024-0D2EDC80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DD3-E062-4ADE-B80B-4899930C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415-2185-4E32-946A-B3C7F050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0AE-E145-46D7-9FDB-F128B9E7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520-CD65-4A65-A166-FF0B63B8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BF9-74C5-4ADB-9666-2F135F22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DFB-31BD-4D9E-9909-931F65AF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A86-AD0B-4973-AC9F-87DCE31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AB841-922C-4E18-AFFC-68B3837404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