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86995"/>
        <c:axId val="44447642"/>
      </c:barChart>
      <c:catAx>
        <c:axId val="66186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47642"/>
        <c:crosses val="autoZero"/>
        <c:auto val="1"/>
        <c:lblAlgn val="ctr"/>
        <c:lblOffset val="100"/>
        <c:noMultiLvlLbl val="0"/>
      </c:catAx>
      <c:valAx>
        <c:axId val="44447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86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6FF-559B-4EAE-A222-A7850692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042-1490-4FD2-9F06-B66A7CE7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E0C-D33C-4C41-980C-19C30C20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32F-3E6C-4AE5-BB2C-657C93B9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356-A7BF-4CEA-A4D6-4A6FDCD0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3B5-B82D-4E35-BC62-EEE7D997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ABE-54FF-4581-BA52-E27F512C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9AA-435D-42B2-BB8E-0DDBA530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4FE-BB33-4943-BF4C-85513FD9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33E-631E-421E-A10C-EB3E165D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64C-13C6-4F81-87B4-38962B4A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4D8-97FE-416A-9E02-B24C4EE8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AE9A7-A02F-4FB7-903B-627E9D74A0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