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1426686"/>
        <c:axId val="87080208"/>
      </c:barChart>
      <c:catAx>
        <c:axId val="8142668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080208"/>
        <c:crosses val="autoZero"/>
        <c:auto val="1"/>
        <c:lblAlgn val="ctr"/>
        <c:lblOffset val="100"/>
        <c:noMultiLvlLbl val="0"/>
      </c:catAx>
      <c:valAx>
        <c:axId val="8708020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42668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9F4D-E4CC-4C3D-9665-F003AEE8D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25FE-274C-4CBA-9FBA-94D181254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2062-4CC7-4B6A-AE3A-8ACB62B91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0A23-23EF-458C-BEA2-DB90227A3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264E-6CBC-46CC-8409-6F3D26271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8AC2-E771-4134-A041-47784E63E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B25B-75E9-47F1-BFB3-278C499F9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74F7-1A1D-4603-A6D1-1EB9E69A6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3712-4577-4C86-9DAB-0FD5AA452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8C7E-CB98-4895-9742-199A31C96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C2E2-FF9D-4651-A3E7-8C7AD059E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0787-D9DC-4749-B226-CAE4887AD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E39EA1-B1AA-4639-B319-8F9DFA33BBC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