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86915"/>
        <c:axId val="62237029"/>
      </c:barChart>
      <c:catAx>
        <c:axId val="98386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37029"/>
        <c:crosses val="autoZero"/>
        <c:auto val="1"/>
        <c:lblAlgn val="ctr"/>
        <c:lblOffset val="100"/>
        <c:noMultiLvlLbl val="0"/>
      </c:catAx>
      <c:valAx>
        <c:axId val="62237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86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704-134F-4777-9AB5-2978027B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E30-804B-4482-BA36-FDBD82DB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529-430A-4C19-9798-3C055A0D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2C4-A9F6-4B83-9166-06F9595A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7C6-0585-4CBF-AADA-8413D14A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21E-33AF-4554-B303-B0211297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73D-C7D3-4E64-AF2E-8EBF355A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146-B4CA-4396-8027-C50279F1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DDD-DA6F-41BE-9B5D-58C8941B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2DC-392E-4E3D-94F8-C5DD8B50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8AE-9B15-4B7C-8827-D5620CA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466-F3AC-468D-BD9A-2ABC7F4E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55861-5F92-494A-AB57-B83554F502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