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47036"/>
        <c:axId val="19448195"/>
      </c:barChart>
      <c:catAx>
        <c:axId val="2614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8195"/>
        <c:crosses val="autoZero"/>
        <c:auto val="1"/>
        <c:lblAlgn val="ctr"/>
        <c:lblOffset val="100"/>
        <c:noMultiLvlLbl val="0"/>
      </c:catAx>
      <c:valAx>
        <c:axId val="19448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4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048-DD94-4E65-9F13-5657C23C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4BF-B608-4FCD-A497-B10A61A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F1B-B117-449D-A8CB-C9531312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69A-7EB8-44D0-9FD7-634B9EA0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0EE-09B7-4260-9721-ECEF067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190-D8E5-4473-A96E-1837BA77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F96-841F-4060-A076-BE3C529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D2E-09B2-451E-9ED4-1E8FAC8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819-FF55-4AAC-9BF5-E31DB592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58E-0FB3-4E36-A6D8-E9E506B9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A2C-4FA4-4481-9867-983A7250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A38-01AF-4FBD-89BE-B05A3BD9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8CBB6-3C86-48D7-BE44-1CDB23E728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