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51334"/>
        <c:axId val="2732550"/>
      </c:barChart>
      <c:catAx>
        <c:axId val="21251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2550"/>
        <c:crosses val="autoZero"/>
        <c:auto val="1"/>
        <c:lblAlgn val="ctr"/>
        <c:lblOffset val="100"/>
        <c:noMultiLvlLbl val="0"/>
      </c:catAx>
      <c:valAx>
        <c:axId val="27325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51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939-F50B-41EB-B820-02014961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2C0-B2E5-45E6-8336-46BC7C4B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A1F-85FB-4F81-905B-4A7C1070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09F-3AE8-47E0-BF36-DB7B5C51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980-50A1-4797-B291-3CCC366F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18F-D1B6-40A3-81D0-B281ACC0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B66-6039-40F7-AC58-7D0469BF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84D-1667-4A37-8737-389ED8F5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F83-43E9-40C4-A520-0CCA699D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906-1E49-4FB8-86BB-977BEF3B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953-1538-4175-B90B-D0BB1DB2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AFE-675A-4E6D-8CE1-A374743E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CE57D-8F03-42D8-B613-3AE383D53F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