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1179"/>
        <c:axId val="60033843"/>
      </c:barChart>
      <c:catAx>
        <c:axId val="5171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33843"/>
        <c:crosses val="autoZero"/>
        <c:auto val="1"/>
        <c:lblAlgn val="ctr"/>
        <c:lblOffset val="100"/>
        <c:noMultiLvlLbl val="0"/>
      </c:catAx>
      <c:valAx>
        <c:axId val="60033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1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46E-9554-460F-A0EF-D8BBDC90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97F-B5CD-4E95-81B9-BBB7CC7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10A-CB94-45F3-82E9-2F442FCD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C45-0567-4ED5-A8B9-D6A48CEB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891-A648-48F6-BF34-CEB106B0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94A-A983-464B-A568-21865D6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5EC-72C1-4DB0-A96C-D8B1C9A2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D1B-5908-4873-9270-F1330300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FE1-F180-4882-ADCF-12121929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936-A622-4E1A-A188-AE31F7AC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C62-6FD3-4F11-922E-CF7918B6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827-8F1E-430B-A672-6AE395A9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B4E8D-01B1-4ABC-9388-F599591F2D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