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18933"/>
        <c:axId val="38810560"/>
      </c:barChart>
      <c:catAx>
        <c:axId val="59118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10560"/>
        <c:crosses val="autoZero"/>
        <c:auto val="1"/>
        <c:lblAlgn val="ctr"/>
        <c:lblOffset val="100"/>
        <c:noMultiLvlLbl val="0"/>
      </c:catAx>
      <c:valAx>
        <c:axId val="38810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18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099-D244-4BF6-AA6E-8A38434C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083-E9B2-4D2A-A03B-112AACCC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4E5-B326-4B51-BBC7-21B29F83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88FE-A4E9-4F19-894D-63F0F1C8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B45-BB4F-4397-BFC6-5027D27C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A5A-0685-4955-8808-A9BF78E1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BE5-383E-485B-8C7D-F4F89F2F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977-C669-4F31-8876-2D01D68D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9F5-6087-4BF4-9FE2-36128B2D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798-8D9E-45D7-8E9E-4DAF0F3D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481-0811-41EB-A136-D188F6BC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B44A-4E36-4CD9-BC74-404317DA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C9CB6-BFDA-432F-ADD5-C62B4AF102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