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84579"/>
        <c:axId val="48566758"/>
      </c:barChart>
      <c:catAx>
        <c:axId val="43984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66758"/>
        <c:crosses val="autoZero"/>
        <c:auto val="1"/>
        <c:lblAlgn val="ctr"/>
        <c:lblOffset val="100"/>
        <c:noMultiLvlLbl val="0"/>
      </c:catAx>
      <c:valAx>
        <c:axId val="48566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84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947-E022-4CEE-9EE7-DE809576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2A1-6810-41A6-9928-5EE65DC6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C46-5232-45B4-AA82-B0F18E64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CC3-9BA0-46D4-9884-CF90F94E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A3A-BE2A-4654-911D-E5E9B7A7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624-BF5D-4924-AD89-E36972BA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152-50DA-4501-83E1-BAA69469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740-EC66-4024-8356-AEDE87E8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C61-253A-40BC-980B-5DB3C980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3B8-5F60-472A-8620-A6B66127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D5E-1174-4B8C-AD60-CB9F9A99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13A-BAC3-4B7C-B066-FE5A2505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0F44B-16BE-4FC5-BC21-AD43900BBE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