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73310"/>
        <c:axId val="50316692"/>
      </c:barChart>
      <c:catAx>
        <c:axId val="91573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16692"/>
        <c:crosses val="autoZero"/>
        <c:auto val="1"/>
        <c:lblAlgn val="ctr"/>
        <c:lblOffset val="100"/>
        <c:noMultiLvlLbl val="0"/>
      </c:catAx>
      <c:valAx>
        <c:axId val="50316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73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BEE-2D98-4CE3-9705-77FC307F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206-31CE-409A-9039-035A4567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3D8-400C-462F-99A8-03649B5A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086-21FB-4ED5-B0E3-AF984B05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4BEB-607E-4809-B0BA-2B58E3EA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F61-DC65-40AD-9CD1-7E3690EE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D58-5F05-47B5-AAE3-A79CE8EC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9B4-0169-4C67-8B6A-F38EC139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995-4528-4290-8D28-C1A2B87C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EAA4-E803-4A11-A8F3-490E5292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034-2D6C-4CB5-BD5B-385465B2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FC1-4B8C-4F13-8E07-3A29692C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F212A-63B7-496F-9767-A20AACA378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