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11003"/>
        <c:axId val="42728765"/>
      </c:barChart>
      <c:catAx>
        <c:axId val="3151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8765"/>
        <c:crosses val="autoZero"/>
        <c:auto val="1"/>
        <c:lblAlgn val="ctr"/>
        <c:lblOffset val="100"/>
        <c:noMultiLvlLbl val="0"/>
      </c:catAx>
      <c:valAx>
        <c:axId val="42728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483-5D1A-4EB6-A0AF-422FEB8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9D3-846A-44D7-9296-0939FFE2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37-66C8-48E6-9940-24C13A78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A38-F91C-43A1-BA88-6109E434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576-4659-48CA-A04E-C63433F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A00-FD36-4F74-A7D5-A2600DB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94D-D39A-4D61-904B-DE9A2BD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2F1-1EEA-4884-9AAD-728E7DA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46C-308F-4931-9AAE-81D4B2F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80B-443C-49E2-B14C-4158028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3AE-AC02-46FE-806E-70DA48D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224-7335-4282-A916-BD43138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B2CD-58B2-40B9-AB33-4B42DE05D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