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54479"/>
        <c:axId val="21241594"/>
      </c:barChart>
      <c:catAx>
        <c:axId val="32954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41594"/>
        <c:crosses val="autoZero"/>
        <c:auto val="1"/>
        <c:lblAlgn val="ctr"/>
        <c:lblOffset val="100"/>
        <c:noMultiLvlLbl val="0"/>
      </c:catAx>
      <c:valAx>
        <c:axId val="21241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54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A3B-DE5D-4D86-A5A5-5F1BB0EB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9F1-C785-4A29-B76C-65DAA745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F8A-35BD-40E8-99C4-80B038C8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704-F5DC-48F8-8B2F-4E26223B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D54-2697-4941-BC06-E532984A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50A-8D85-4E83-9F22-BF369256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510-F88B-4D09-A1BB-AC07910A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ADB-0017-4AE7-B5B1-6224A181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0D8-5441-4A96-848F-800B8A0D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6D6-525D-499A-AF23-14218D52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ED4-CB67-47E5-9515-152CC37E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CF8-B47D-48C1-8F13-983D453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E6FC7-E547-4429-A7E0-B35B0648E3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