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06128"/>
        <c:axId val="64256480"/>
      </c:barChart>
      <c:catAx>
        <c:axId val="95606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56480"/>
        <c:crosses val="autoZero"/>
        <c:auto val="1"/>
        <c:lblAlgn val="ctr"/>
        <c:lblOffset val="100"/>
        <c:noMultiLvlLbl val="0"/>
      </c:catAx>
      <c:valAx>
        <c:axId val="64256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06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E2F-F654-43BC-B95B-8B91187E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F03-539A-4B15-BB01-AB53E47C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07A-3F8B-417D-AB22-6EDFD53E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851-0E6E-4EE0-939D-98E5B4E3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3A4-6A17-4D04-89C7-14FCD09D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341-1E8D-44BE-9801-7E57AC11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7F8-96B5-4D25-89E5-DA9EE1FA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0B3-EB99-400D-BC4B-80244449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ABB-E922-4F03-948C-793A3E2A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539-35BD-49F2-AD05-35C0DC04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29C-28F5-421B-927B-67F14CA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F27-BEC7-4078-AA0E-9B7DACA9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B3D61-5C70-4D5F-8907-1AD59A09FE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