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13635"/>
        <c:axId val="31289717"/>
      </c:barChart>
      <c:catAx>
        <c:axId val="59913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89717"/>
        <c:crosses val="autoZero"/>
        <c:auto val="1"/>
        <c:lblAlgn val="ctr"/>
        <c:lblOffset val="100"/>
        <c:noMultiLvlLbl val="0"/>
      </c:catAx>
      <c:valAx>
        <c:axId val="31289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13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E31-0783-4FEC-BD8F-AE09174B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6F0-39AD-47B8-9646-5C539792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2D7-1B63-4453-9D30-5C6960CE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859-C0F4-4F39-A652-AE8DF28C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313-BCF1-4D06-83FC-CDC22E99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82F-EA8A-41A7-A816-E72D8AD4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D67-E9D4-4637-BFD6-FE820292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E3D-76B6-4FFF-A01A-F43A996C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3FB-B76C-4623-8900-8AEE3CD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62F-7BFE-4C63-A43E-EF791FC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1A4-13DD-43DC-BEB5-0883BE24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311-D7D1-4C67-97F7-837AEDBF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797D5-F545-44B6-AC4D-68F7902FC3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