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31912"/>
        <c:axId val="60774458"/>
      </c:barChart>
      <c:catAx>
        <c:axId val="33731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4458"/>
        <c:crosses val="autoZero"/>
        <c:auto val="1"/>
        <c:lblAlgn val="ctr"/>
        <c:lblOffset val="100"/>
        <c:noMultiLvlLbl val="0"/>
      </c:catAx>
      <c:valAx>
        <c:axId val="60774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1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BC9-5B5E-4C06-8113-E7C7F195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4CB-CCA3-4BB5-9B6B-5CEC3EBC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E37-7762-4871-85C5-862B46B3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88C-7298-4929-B28C-5516A124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43B-4686-4FA2-A704-0E27D25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12-A93F-4247-A3B6-47FC7DB2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5FF-AEAD-4B24-ACF3-5D85D8F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FF0-261C-4EFC-920B-4ABDF90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C6C-BC25-453B-A048-E182B8C6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5CD-8320-46A0-9000-A7C3326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118-E3C6-4222-9BA3-9BFA478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958-B2F4-4CD6-9A2E-2B4778D7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9F98C-B39A-4238-A7A2-2D6558AC9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