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5631"/>
        <c:axId val="2849372"/>
      </c:barChart>
      <c:catAx>
        <c:axId val="94056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9372"/>
        <c:crosses val="autoZero"/>
        <c:auto val="1"/>
        <c:lblAlgn val="ctr"/>
        <c:lblOffset val="100"/>
        <c:noMultiLvlLbl val="0"/>
      </c:catAx>
      <c:valAx>
        <c:axId val="28493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56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0ED-B061-4602-BEAC-2D6BDD01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5C63-978F-4F73-A302-2D3E4CFE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783-A3CB-4DEA-8365-272431D5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03C-4A60-4072-9A16-22DA5764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ED2-961B-4D78-B4F1-9E9DCD67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649-50CE-4087-802E-81896FD9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3DF-10AB-41F4-91DB-49F326A1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2FA-2034-4A05-8A7B-873969C4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E834-501F-4305-B3E7-B23230B0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60BB-BDAC-4800-9801-56AB0AA1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C921-B4A3-41F7-8E5A-C2E24257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6C0-1624-4C1B-898E-2B4138C8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7F39C-1AE0-4466-90B8-69040D8B03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