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1891"/>
        <c:axId val="12736397"/>
      </c:barChart>
      <c:catAx>
        <c:axId val="7851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36397"/>
        <c:crosses val="autoZero"/>
        <c:auto val="1"/>
        <c:lblAlgn val="ctr"/>
        <c:lblOffset val="100"/>
        <c:noMultiLvlLbl val="0"/>
      </c:catAx>
      <c:valAx>
        <c:axId val="12736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1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3AA-C971-4B91-B6A1-FAADBC87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4F6-54EE-47A9-A65F-4B9D9C96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DD4D-C8E4-4EBD-B004-CD0AE61E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D99-4C9B-4BCE-8988-81B9172E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AE2-AC67-48A4-B039-C94118E3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9EC-7E7D-4191-914F-F2B6DA1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FF0-BED5-411C-A5C8-DD76CA7C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D10-7772-40AB-8BE3-8BDF948B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F70-A30A-4FE7-8531-6AF6811E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BF7-5F2E-46A8-A8AF-10ED9B2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431-132F-4F52-89F7-A5555FF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CF4-B4D4-4293-BB99-A5A00EB4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F3CE7-540B-4F8D-9A57-AE5594F3DB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