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93566"/>
        <c:axId val="67415019"/>
      </c:barChart>
      <c:catAx>
        <c:axId val="168935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15019"/>
        <c:crosses val="autoZero"/>
        <c:auto val="1"/>
        <c:lblAlgn val="ctr"/>
        <c:lblOffset val="100"/>
        <c:noMultiLvlLbl val="0"/>
      </c:catAx>
      <c:valAx>
        <c:axId val="67415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935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7E5-663C-4671-85E0-98760E1B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E55-58A9-4E8A-AE6B-81B401AD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E6C-A657-4A66-B8D4-1FB4F703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E97-BF4B-4838-8E62-C36C25B9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198-FF87-4766-95C6-E7057114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04E-CA12-4EBD-918C-F83F170E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319E-1576-49A7-B63A-542C3321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D6E5-56C2-4066-9911-2BFFAF33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7D5C-DFDB-4152-B20A-329BE3E4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38D-984E-44A3-AAE7-60D036EF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37A-0AD4-4188-8ED2-00F636C6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156-0DE2-44F7-B0E1-2EB6AFD1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9AC37-DD92-44D5-B9F8-F0662999B2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