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97227"/>
        <c:axId val="95367489"/>
      </c:barChart>
      <c:catAx>
        <c:axId val="16797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67489"/>
        <c:crosses val="autoZero"/>
        <c:auto val="1"/>
        <c:lblAlgn val="ctr"/>
        <c:lblOffset val="100"/>
        <c:noMultiLvlLbl val="0"/>
      </c:catAx>
      <c:valAx>
        <c:axId val="95367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97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520-02C9-4348-8132-45FBD0A5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98B-0006-448A-9E11-D2DAB2DB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7AC-1E7D-43DA-9D2E-65D6347A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94E-69DC-472B-AF62-25CEE1CA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97B-D7C9-440D-B3B3-5C7FC0DD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553-6F9D-40E7-A262-633CE605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3EE-0069-4EDA-9C91-631A9382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9E8-A268-491B-BC38-290D34BB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B01-8734-4665-AFA0-91177271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B1E-3D79-48E4-8F28-04E9402C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6D2-4C25-40A3-969F-9B793E18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DFA-3636-4397-94F7-5399575E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FE1FC-80FF-4C48-8090-DE7AD036C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