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2887"/>
        <c:axId val="17322488"/>
      </c:barChart>
      <c:catAx>
        <c:axId val="9252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2488"/>
        <c:crosses val="autoZero"/>
        <c:auto val="1"/>
        <c:lblAlgn val="ctr"/>
        <c:lblOffset val="100"/>
        <c:noMultiLvlLbl val="0"/>
      </c:catAx>
      <c:valAx>
        <c:axId val="17322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AF8-9198-4FC1-B20A-A6ED50D7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580-F97C-416A-8F0E-CD0194F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D73-B1F2-4A97-AD3A-2FD2659F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B49-687D-449E-8525-25177F4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EEB-8DB5-4AFB-9BC8-1F228D61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A4-3B85-440D-82D4-039DB6C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DFC-5507-4AEC-8C20-ABA148AB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A69-2743-4299-99BC-E8CD1373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6E8-EF44-4B89-9431-21AAA37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448-2F67-448B-9B2B-77B5DB7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10D-5116-45D3-8369-9263AD3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A5B-7E91-4ADE-B835-73BAE82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27585-51D3-49A2-8CE8-8815D59AD6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