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05974"/>
        <c:axId val="87041673"/>
      </c:barChart>
      <c:catAx>
        <c:axId val="65305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1673"/>
        <c:crosses val="autoZero"/>
        <c:auto val="1"/>
        <c:lblAlgn val="ctr"/>
        <c:lblOffset val="100"/>
        <c:noMultiLvlLbl val="0"/>
      </c:catAx>
      <c:valAx>
        <c:axId val="87041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05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2F5-36F5-47E8-B693-060B310B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B56-E1CF-403C-A4B9-98B9B39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B63-6161-4588-AC03-036A9413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3AB-5759-4B83-A2AE-13AB7069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18D-EB4D-4443-AEDF-C323BB9B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972-48B5-4633-BECE-53E5F61C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3DD-886D-48D1-B2BD-1AF64F2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CC6-4E6B-4B81-86C7-4FFDF4C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96C-0183-4428-8867-5271798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C34-48B0-4342-A6A7-90E2955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9F9-E204-45FA-B63A-27C8446B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5CD-27B9-4B77-998A-FCB9AE6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70B7E-DC43-43F5-AF6D-CD54DE2D0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