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913315"/>
        <c:axId val="17558271"/>
      </c:barChart>
      <c:catAx>
        <c:axId val="24913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58271"/>
        <c:crosses val="autoZero"/>
        <c:auto val="1"/>
        <c:lblAlgn val="ctr"/>
        <c:lblOffset val="100"/>
        <c:noMultiLvlLbl val="0"/>
      </c:catAx>
      <c:valAx>
        <c:axId val="17558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13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C007-489D-4FFC-B609-B6D1446E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B62B-88F0-447B-825D-C940D134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1296-BFF1-48E3-B4E5-D89383E4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C0A-D4E5-4539-B119-77B76A4E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649F-7070-4E1A-8DA6-B0D02C29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C9FE-3DD4-45A4-8E0D-5C0F8C62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6DE-083D-410D-8383-B784CA8D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97EE-058D-48F2-AF32-DDF6F973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1759-5A0D-4484-9786-7D21B0DE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049-E597-42CC-AA3E-6EF5D356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8149-0136-4C6C-B50A-09EA59C0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05D0-531D-4E30-9E5C-348410BC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68988-B1C1-4701-9223-6D2E4589CD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