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966558"/>
        <c:axId val="2370492"/>
      </c:barChart>
      <c:catAx>
        <c:axId val="959665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0492"/>
        <c:crosses val="autoZero"/>
        <c:auto val="1"/>
        <c:lblAlgn val="ctr"/>
        <c:lblOffset val="100"/>
        <c:noMultiLvlLbl val="0"/>
      </c:catAx>
      <c:valAx>
        <c:axId val="23704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9665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1F65-7B25-4D95-B447-62732BE9F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4DBD-8D47-4677-8B53-CD9BA13E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4331-B59F-43FA-8204-51731FF0B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B968-207D-4CD5-820D-B3DE37E38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1501-BADD-4E79-B1B6-3C539006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B6D0-ADE0-4FA1-A730-4DB6DD61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6BDB-5E91-46FE-AB3E-39F12A24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38C2-EF83-4129-9114-1B57B3C5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2231-E659-4569-9EFC-6B070B1D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D1E3-05EE-4AB2-B20D-DAB4FCD2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91AC-9178-4D01-A93A-66CA8007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8670-34BA-472A-AB67-E7383FB4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1F872-8DD7-416B-9275-1A9BFBF025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