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541137"/>
        <c:axId val="93503123"/>
      </c:barChart>
      <c:catAx>
        <c:axId val="745411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503123"/>
        <c:crosses val="autoZero"/>
        <c:auto val="1"/>
        <c:lblAlgn val="ctr"/>
        <c:lblOffset val="100"/>
        <c:noMultiLvlLbl val="0"/>
      </c:catAx>
      <c:valAx>
        <c:axId val="935031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5411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A235-9017-4424-854C-3F2E572C1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4DE1-D851-4333-B384-5D30A13C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4C69-C716-435B-AE09-96EB2B308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899F-A368-41B9-916C-753D443C8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7A98-D200-4F62-A4B8-9CE1D315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823F-7D11-423A-91D6-CFC0E3D2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FEB9-E04C-48C0-B1CE-311258BF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ED03-2695-4D0E-8428-5074EF66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B97C-7A11-4B4B-A022-C646C689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316E-63D1-47C8-A2F4-49838838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F6EC-805E-4A03-B4EB-59B8531D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81EA-1613-410F-B95B-B7ADBDC9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954A3D-6411-4AB8-8CEC-0DE1B95C29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