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60978"/>
        <c:axId val="248811"/>
      </c:barChart>
      <c:catAx>
        <c:axId val="50560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811"/>
        <c:crosses val="autoZero"/>
        <c:auto val="1"/>
        <c:lblAlgn val="ctr"/>
        <c:lblOffset val="100"/>
        <c:noMultiLvlLbl val="0"/>
      </c:catAx>
      <c:valAx>
        <c:axId val="248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60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FEE-E3E1-4458-9A5B-E5481BF2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C6D-F0EC-46D0-A5B1-DFCC466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8C6-00BD-46C9-9648-65F210F9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80D-B526-4C7E-A528-34AEA483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71F-5C6C-4DCB-957A-F5394E92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B80-AA3A-4370-983E-93C50828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640-EB8A-4696-9644-9EA89DD1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9E5-F61F-4C93-A9D5-20421479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D94-2952-44C6-BD5E-9EB0AFF5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A1E-B5F3-4B0E-A90A-C7474D2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B31-EE17-4176-A909-F88138F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FAE-06FF-4588-946E-09D0805F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90342-DA6A-4C00-8083-D6FFD94559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