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228776"/>
        <c:axId val="2973323"/>
      </c:barChart>
      <c:catAx>
        <c:axId val="132287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3323"/>
        <c:crosses val="autoZero"/>
        <c:auto val="1"/>
        <c:lblAlgn val="ctr"/>
        <c:lblOffset val="100"/>
        <c:noMultiLvlLbl val="0"/>
      </c:catAx>
      <c:valAx>
        <c:axId val="29733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2287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109B-903D-4717-8BA2-B935C6D5C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331E-88AA-4232-AEA8-F3487D7AA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B5FF-AB80-4191-B769-C434B213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5F51-C765-474B-B954-D954097D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06D-D52F-4905-BC82-EF33CAAE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C7195-2B89-4AC7-B3A5-0A049EE97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B625-F1D4-4FE0-800F-D8EF3F4A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2B54-1E36-4E0B-A190-37B8AC465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A60E-6CF1-49C7-BBE1-3667AAB1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1A86-C813-455F-A80E-55DFC2B40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897A-5858-4DC6-89AC-0E048309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5594-D1CD-4ACA-9480-0EE5E8DF9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85D1CE-9F59-419B-BC15-B79C33191A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